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2.wmf" ContentType="image/x-wmf"/>
  <Override PartName="/ppt/media/image19.jpeg" ContentType="image/jpeg"/>
  <Override PartName="/ppt/media/image18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1.gif" ContentType="image/gif"/>
  <Override PartName="/ppt/media/image4.jpeg" ContentType="image/jpeg"/>
  <Override PartName="/ppt/media/image6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6A76-6BCF-4DDF-BB8C-D88AE6C7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iosis - division of cells which results in the production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 - also known as sex cells, germ cells, or spores; cells of sexual reproduction, which contain only half the chromosomes of a normal cell highered.mcgraw-hill.com/sites/0072549238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_view0/glossary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Threadlike bodies found in the nucleus, or center part, of a cell that carry the information of heredity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haredexperience.org/Glossary.lass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genetic diversity - variation among and within species that is attributable to differences in hereditary material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or.gov.bc.ca/hfd/library/documents/glossary/G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Reas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INCTION!!!!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my sister does have a big nose.  So the human species is saved.  Kinda makes big noses pretty attractive now, doesn’t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 can we conclude about 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produces d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ersity ensures survival of a species in an environment that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n which two cells, termed gametes, come together to form one fertilized cell that contains genetic information from both parental cells.   ucbiotech.org/glossary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 of offspring whose genetic constitution is a mixture of that of two potentially genetically different gamet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.unibe.ch/teaching/GlossarE.ht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How many of you have mo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n one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everyone in this room is a produc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Factor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(i.e. it takes two to tang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:  Why do we need more than 1 pa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                  +      ½                 =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by what we’ve discussed, in sexual reproduction “mom” donates half, and “dad” donates half.  How does this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a female and male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parent donates ½ of the Chromosomes/Genes/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fertilization - the combining of game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 moment to write down one trait that is different and in what way it is differ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ancing baby graphics and music courtesy of MegaBaby.com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C4F8-CEE2-4BCA-B59A-4C61DDC6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E12B-6B35-4298-BDB2-37A3A5EE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C80FD-1BD2-45FB-B8D7-261CF632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78CE4-36DF-4F11-A275-153A406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4155B-730E-4EE1-A717-706E5CC4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1B248-A038-40A0-8343-E2B79AAC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654B9-EFD6-4AE9-A640-E9304DDE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26CE6-39D2-40AD-AF98-A1AE6EA5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6A621-55AF-4B44-B499-B5427CB5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9E1D2-B51A-4DA0-8865-B84EB95FD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FB4C1-4135-4730-A203-4FD564B9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4FB15-1FB6-4870-A879-7A372DF1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C4F-E5DD-4D6A-B8BD-25E8ECD0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C199B-AC0C-475A-B7F9-F38E239E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488C3-F3EE-4C7F-B292-E42524F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067AA-281A-4C7C-A0E0-3A19BDE6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65DC6-9F12-44D1-9529-9936ED0D7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013D07-83AE-4F4D-8CA7-AE9FB4BC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90006-3D84-4A2D-9D85-52B20D8B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2B14E-2082-478B-8ADF-18BECD24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27297-9358-429C-A86E-F866EE70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FD0C9-AEBF-4512-947F-63B11163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F6B76-B19D-4944-B0A2-27EA59754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214-139F-4EB6-9930-6AB56F90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605EF-2ADB-4E3F-BE7E-2B8739B5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AFA37-86A7-4EC1-A7F1-27D2E03E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02728-EA48-4F09-983D-168218BE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BA7930-0B95-4330-B49C-EB5F8C69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FDA1A-641B-4C9D-B5C0-8D4A0123D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5CEF4-0EFF-437D-8F6A-555130B8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EED0B-ABE1-4214-BFF8-F22EA8CF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F9879-7C3B-46F1-844F-BB855AC4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0087F-3A01-41CA-BE0D-2C5FC9F6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6DB52-32A7-48E4-A3F1-A51DCF05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673-574B-4898-B8C3-D13F203BE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9F109-7C94-4315-BE67-00EC9BF7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D46C5-362A-4CA0-A1DC-2619DB49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3EB149-98F2-4CFD-9299-5AD2D552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406E4F-EFE2-4DF6-8150-935C966D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1DE6E-C509-402A-985B-E1EC47E7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96FC89-21E8-47EF-9517-E2A8D18E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7C7F4-CEFF-4725-9122-AE17A021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6E34A-796F-4A2C-981B-50D515D0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A042C4-9DA8-4B68-9901-3E0562B8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BE178-7424-415C-829B-CEF9AC3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9CB3-1CE2-4B75-A1DB-0D256DAF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B500E-DB8C-4C0A-A15D-2F25EE86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ADE4A-056C-49E1-9580-0EAD4B65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34A2A-04F8-4040-B73F-000C5925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502A2-A769-4310-A0D0-D989875E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1A1CD-CD39-48EA-9098-37B3A5EB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9C513-AFE6-43A7-9EB0-753096EE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DC968-785B-41C3-BF3B-0EE64185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1A8819-988A-4BD7-97E3-DADE1FEB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CC40E5-E502-428F-B5FB-32DDE413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8BC3C-BC05-4C61-BE69-8C95CB1B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1F4C-2CE8-4E44-B4EB-0F3B8BA2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8323A-8F79-4237-82DC-8E7E0914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327D76-0250-449C-A3F5-5C7D05CE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451EB-F426-4D18-B66A-2507A4C5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862D2-611C-4E57-B585-37A38512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7C080-2D97-40DD-891D-7FDC4A4D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BCE5B-299F-467A-B8CE-B45D5940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BAC0A-651D-4B48-B973-C50F4E349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7C96-A18B-4621-A9CC-1555D932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CFF8-00B6-48F9-9A1F-364F48BA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91A3-82A3-427D-A146-10C0D650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85C2-8AD8-4E25-B497-755FE62F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353-9B65-419E-BF2D-3025D9D7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C27A2-4E1A-4202-9C29-D80FAD23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8E07-677B-40AD-93E6-ED51663A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351F-E6BF-46A3-B7D9-52D76C5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2FCD-67C1-4D98-9471-C08F4B106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4422-FB84-4356-97B3-8DCD8C93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A3344-BAF6-4479-B3BD-4BB7CB33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3670-4F5C-4CB7-A789-82410863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F37F-8686-4A6C-98E3-D3197492A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DA93-B126-45D3-8239-C71B9A24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9D844-53ED-46DB-A925-E62BB807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3530-0F7D-4F82-8863-7B3A524EC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39D2D-DABA-440B-8AA2-20085493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57086-393E-4DAC-BD69-5ACD446A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C71D-FF41-419A-B299-FC282221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B015F-C940-4858-A7C9-C9911766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EB0E0-A32F-4823-8C7A-75B8319B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87C7E-2C74-4725-838E-130EB1401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02649-0D6C-4841-8A2B-A0F4F25D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4DD8C-0726-4574-9052-4AC1EFFC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926E9-0AA5-44F9-8052-0F3731F4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46DF9-18DD-47B0-B83D-60095D3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BADD-FD41-4C4B-8EA4-9EFD0CE5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894D7-0475-4050-AC25-EFB0C444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1AFCF-2F02-445F-93A6-53BF56B4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4BD1-BE12-4F03-BDD5-FF7CEFDC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2247-2EE7-48FD-AC75-EAE76D4B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D7E57-C906-456A-9003-C0FE144D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F906C-6DCA-4721-9C46-EF39D40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862C1-BC01-421F-AB0B-72273790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E5827-657A-4A47-B58C-EE13C3E2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3C565-319F-48D1-A164-E5E26BE5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B30B0-B6FA-4752-B8B6-3BB22D76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20C-664B-4FB5-A079-5E794F64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505C4-AC74-4401-9345-BEBD558C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4AC5-C3D3-4F81-98E3-725755BA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E98DB-E66E-48E8-868B-5494CCD2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907A-4BAD-440E-A641-6ABCD13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495C9-E108-4CB4-9B0D-E267BC16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88B5D-38E1-48D5-8687-49D46801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FECA3-216D-49D8-AAD6-7ED70C0B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8162B-40EF-4AA0-A2EF-FD045381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BA528-034B-4211-8831-36F7E595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E7412-2994-4DB7-B539-0EE82835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78E-5D8C-47EF-9E67-6B1D8D826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B2A15-B73E-4B44-8D6F-5D4A68E2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53B95B-06C6-42BD-A630-3D811F9C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AD739-9723-4779-86D9-0E275650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DE43D-5517-47D1-9D40-E2E9195E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5C1B5-2C17-4328-B3B4-347295A4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BC8A3-A31F-4AF9-BA44-D982F67A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555EF-6401-40F8-AA62-198495E7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BBC65-11BB-4F1C-A5E5-021FD8F4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75B7E-70D9-41FD-9DEE-4C2D1155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E75D5-3595-4707-B974-615469E7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D85-A47B-4904-96A0-A2FB04E5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C1050-5954-4D9A-BD41-A98242BB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1D278-B0D7-4AB3-9098-8C509D83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1D790-DCE9-467E-A47F-64724E6A3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5A935-329E-4514-AF76-414F2033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0BAC-2514-4C45-9412-390FB7B5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25B1A-3DCA-4CDE-84E6-4DD4CCE9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E9B78-6BFD-4ED2-801A-DA235F74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0B543-B29A-4B52-BD89-D6B016D5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DAFC8-2BD2-4523-88B9-A9116240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11291-AF66-40DA-921D-D312813C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4A3E-9749-458A-A886-37A20C7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5DD8F-04F1-43BF-82D5-737FDAFF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DF69B-25C1-4273-BE54-D8B1696B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322E9-DFF3-495A-ABA8-709672F4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B4DF5-979F-4317-A113-D94CBCA1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A7136-9093-4A3C-AEC6-B0B31359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7E219-3DB3-4A55-93A6-92233504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CF4D4-1E4E-40A5-AFFB-9FB257FD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E07D4-0BD9-426F-AC1B-AEDE6A9B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7C6F5-5F0B-4791-9E8F-B09240C7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156BF-53E6-4E63-9F58-48869E06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CBAE-6593-4E97-8638-65D8F407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64BF6-4816-4958-ABE3-6A9FA06A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1169D-1F71-4D1F-9278-6815C39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56C07-D933-44C4-9ACF-6751DA93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EFB28-BF1F-4543-80C4-8F4114E7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EE02DF-0EFB-4AFA-BA15-7577DBB1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4BBFD-355B-4B47-9E5F-B6972FEE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8EF5CB-1C8C-4A6E-AA2D-12ECF3A9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94F16-0AC3-40F2-B249-060DF2A4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537E0-5B59-491F-A08D-168F1D90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31A76-C6D7-4A50-814C-C710CB9EF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AC8B-328D-4EAB-938C-E3D30E4C071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989C-4457-4403-A42A-6269450DF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A0CE-8FE7-41D0-8590-EA9FD1ECF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6DED-31CE-4D52-AA45-D946725392CA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67DC-D0EA-4CBB-8062-FF955CE8E4C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9D95-13B4-414C-B80C-2335008D15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56A1-7D30-4117-9D32-2F89F1E9F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A991-2B0A-4463-A8C2-723D9A06C28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BEE2-FDF5-48D0-9F76-CA260761F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5604-C31C-4DE7-B4EA-A1CB8001B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EE57-767A-4C74-9791-5F0EED47F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772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7621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2485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6F79-F8D8-44B0-98DC-72F5F81C4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2BF5-5A28-47C0-A1FE-304920C04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Quick Review -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eiosi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division of cells which results in the production of gametes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Gametes - 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lso known as sex cells, germ cells, or spores; cells of sexual reproduction, which contain only half the chromosomes of a normal cell highered.mcgraw-hill.com/sites/0072549238/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student_view0/glossary.html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Chromosomes -</a:t>
            </a: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 Threadlike bodies found in the nucleus, or center part, of a cell that carry the information of heredit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www.sharedexperience.org/Glossary.lasso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a female and male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Requires </a:t>
            </a:r>
            <a:r>
              <a:rPr b="0" i="1" lang="en-US" sz="3000" spc="-1" strike="noStrike" u="sng">
                <a:solidFill>
                  <a:srgbClr val="000000"/>
                </a:solidFill>
                <a:uFillTx/>
                <a:latin typeface="Broadway"/>
              </a:rPr>
              <a:t>fertilization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- the combining of game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Produces </a:t>
            </a:r>
            <a:r>
              <a:rPr b="0" i="1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genetic diversity</a:t>
            </a:r>
            <a:r>
              <a:rPr b="0" lang="en-US" sz="3000" spc="-1" strike="noStrike">
                <a:solidFill>
                  <a:srgbClr val="0066ff"/>
                </a:solidFill>
                <a:latin typeface="Broadway"/>
              </a:rPr>
              <a:t> - variation among and within species that is attributable to differences in hereditary material.</a:t>
            </a:r>
            <a:br>
              <a:rPr sz="3000"/>
            </a:br>
            <a:r>
              <a:rPr b="0" lang="en-US" sz="3000" spc="-1" strike="noStrike" u="sng">
                <a:solidFill>
                  <a:srgbClr val="0066ff"/>
                </a:solidFill>
                <a:uFillTx/>
                <a:latin typeface="Broadway"/>
              </a:rPr>
              <a:t>www.for.gov.bc.ca/hfd/library/documents/glossary/G.htm</a:t>
            </a:r>
            <a:r>
              <a:rPr b="0" lang="en-US" sz="3000" spc="-1" strike="noStrike">
                <a:solidFill>
                  <a:srgbClr val="000000"/>
                </a:solidFill>
                <a:latin typeface="Broadway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Now, lets talk about this diversity.  My sister has a big nose.  She’s not too thrilled with having this big nose.  So let’s try to convince her it’s a good thing.  Write down a reason it might be good to have a big nose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9" name="Picture 4" descr="big_nose"/>
          <p:cNvPicPr/>
          <p:nvPr/>
        </p:nvPicPr>
        <p:blipFill>
          <a:blip r:embed="rId1"/>
          <a:stretch/>
        </p:blipFill>
        <p:spPr>
          <a:xfrm>
            <a:off x="3429000" y="3276720"/>
            <a:ext cx="106668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bleak landscape"/>
          <p:cNvPicPr/>
          <p:nvPr/>
        </p:nvPicPr>
        <p:blipFill>
          <a:blip r:embed="rId1">
            <a:lum contrast="18000"/>
            <a:alphaModFix am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Possible Rea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Let’s run with the answer that she would have a better ability to pick up the scent of food.  What would happen if the food supply suddenly decreased and no one, including my sister, had a big nose that could sense this food suppl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EXTINCTION!!!!</a:t>
            </a:r>
            <a:r>
              <a:rPr b="0" lang="en-US" sz="4400" spc="-1" strike="noStrike">
                <a:solidFill>
                  <a:srgbClr val="1c1c1c"/>
                </a:solidFill>
                <a:latin typeface="Broadway"/>
              </a:rPr>
              <a:t>	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t, my sister does have a big nose.  So the human species is saved.  Kinda makes big noses pretty attractive now, doesn’t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4" descr="big nose girl"/>
          <p:cNvPicPr/>
          <p:nvPr/>
        </p:nvPicPr>
        <p:blipFill>
          <a:blip r:embed="rId1"/>
          <a:stretch/>
        </p:blipFill>
        <p:spPr>
          <a:xfrm>
            <a:off x="2286000" y="3657600"/>
            <a:ext cx="39625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5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7621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Broadway"/>
              </a:rPr>
              <a:t>So what can we conclude about Sexual Reproduction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43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it produces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diversity ensures survival of a species in an environment that 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Broadway"/>
              </a:rPr>
              <a:t>Sexual Reproduction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0" y="16765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oadway"/>
              </a:rPr>
              <a:t>Definition:</a:t>
            </a:r>
            <a:r>
              <a:rPr b="0" lang="en-US" sz="1400" spc="-1" strike="noStrike">
                <a:solidFill>
                  <a:srgbClr val="ffffff"/>
                </a:solidFill>
                <a:latin typeface="Broadway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cess in which two cells, termed gametes, come together to form one </a:t>
            </a:r>
            <a:r>
              <a:rPr b="0" lang="en-US" sz="1800" spc="-1" strike="noStrike">
                <a:solidFill>
                  <a:srgbClr val="0066ff"/>
                </a:solidFill>
                <a:latin typeface="Broadway"/>
              </a:rPr>
              <a:t>fertilized</a:t>
            </a: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 cell that contains genetic information from both parental cells.   ucbiotech.org/glossary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Broadwa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Production of offspring whose genetic constitution is a mixture of that of two potentially genetically different gametes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Broadway"/>
              </a:rPr>
              <a:t>evolution.unibe.ch/teaching/GlossarE.ht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914400" y="8380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Q:  How many of you have more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 than one par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" descr="man_woman_walking_holding_hands_lg_wm"/>
          <p:cNvPicPr/>
          <p:nvPr/>
        </p:nvPicPr>
        <p:blipFill>
          <a:blip r:embed="rId1"/>
          <a:stretch/>
        </p:blipFill>
        <p:spPr>
          <a:xfrm>
            <a:off x="2895480" y="411480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5"/>
          <p:cNvSpPr/>
          <p:nvPr/>
        </p:nvSpPr>
        <p:spPr>
          <a:xfrm>
            <a:off x="457200" y="2286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hen, everyone in this room is a product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of sexual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6242760" y="6362640"/>
            <a:ext cx="26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AnimationFactor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a female and male parent (i.e. it takes two to tan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Q:  Why do we need more than 1 pare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Picture 6" descr="MCj03981910000[1]"/>
          <p:cNvPicPr/>
          <p:nvPr/>
        </p:nvPicPr>
        <p:blipFill>
          <a:blip r:embed="rId1"/>
          <a:stretch/>
        </p:blipFill>
        <p:spPr>
          <a:xfrm>
            <a:off x="1143000" y="3809880"/>
            <a:ext cx="1558800" cy="18147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8" descr="MCj03981910000[1]"/>
          <p:cNvPicPr/>
          <p:nvPr/>
        </p:nvPicPr>
        <p:blipFill>
          <a:blip r:embed="rId2"/>
          <a:stretch/>
        </p:blipFill>
        <p:spPr>
          <a:xfrm>
            <a:off x="4724280" y="3809880"/>
            <a:ext cx="1559160" cy="181476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9"/>
          <p:cNvSpPr/>
          <p:nvPr/>
        </p:nvSpPr>
        <p:spPr>
          <a:xfrm>
            <a:off x="533520" y="44197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oadway"/>
              </a:rPr>
              <a:t>½                   +      ½                 </a:t>
            </a:r>
            <a:r>
              <a:rPr b="1" lang="en-US" sz="3600" spc="-1" strike="noStrike">
                <a:solidFill>
                  <a:srgbClr val="000000"/>
                </a:solidFill>
                <a:latin typeface="Broadway"/>
              </a:rPr>
              <a:t>=  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Requires a female and male par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oadway"/>
              </a:rPr>
              <a:t>So, by what we’ve discussed, in sexual reproduction “mom” donates half, and “dad” donates half.  How does this happ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7" name="Picture 4" descr="Fertilization"/>
          <p:cNvPicPr/>
          <p:nvPr/>
        </p:nvPicPr>
        <p:blipFill>
          <a:blip r:embed="rId1"/>
          <a:stretch/>
        </p:blipFill>
        <p:spPr>
          <a:xfrm>
            <a:off x="2666880" y="2590920"/>
            <a:ext cx="32767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1c1c1c"/>
                </a:solidFill>
                <a:uFillTx/>
                <a:latin typeface="Broadway"/>
              </a:rPr>
              <a:t>Characteristics of Sexual Reproduction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Requires a female and male 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Each parent donates ½ of the Chromosomes/Genes/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Requires </a:t>
            </a:r>
            <a:r>
              <a:rPr b="0" i="1" lang="en-US" sz="3200" spc="-1" strike="noStrike" u="sng">
                <a:solidFill>
                  <a:srgbClr val="0066ff"/>
                </a:solidFill>
                <a:uFillTx/>
                <a:latin typeface="Broadway"/>
              </a:rPr>
              <a:t>fertilization</a:t>
            </a:r>
            <a:r>
              <a:rPr b="0" lang="en-US" sz="3200" spc="-1" strike="noStrike">
                <a:solidFill>
                  <a:srgbClr val="0066ff"/>
                </a:solidFill>
                <a:latin typeface="Broadway"/>
              </a:rPr>
              <a:t> - the combining of gam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Now, nine months later, you come out kicking and screaming (and dancing).  To which parent do you look exactly alike?  How about your siblings?  Do you look exactly alike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7" descr="dancing baby 2"/>
          <p:cNvPicPr/>
          <p:nvPr/>
        </p:nvPicPr>
        <p:blipFill>
          <a:blip r:embed="rId1"/>
          <a:stretch/>
        </p:blipFill>
        <p:spPr>
          <a:xfrm>
            <a:off x="685800" y="2666880"/>
            <a:ext cx="2095560" cy="1905120"/>
          </a:xfrm>
          <a:prstGeom prst="rect">
            <a:avLst/>
          </a:prstGeom>
          <a:ln w="0">
            <a:noFill/>
          </a:ln>
        </p:spPr>
      </p:pic>
      <p:pic>
        <p:nvPicPr>
          <p:cNvPr id="562" name="disco baby music.mid" descr=""/>
          <p:cNvPicPr/>
          <p:nvPr/>
        </p:nvPicPr>
        <p:blipFill>
          <a:blip r:embed="rId2"/>
          <a:stretch/>
        </p:blipFill>
        <p:spPr>
          <a:xfrm>
            <a:off x="8153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9" descr="disco baby"/>
          <p:cNvPicPr/>
          <p:nvPr/>
        </p:nvPicPr>
        <p:blipFill>
          <a:blip r:embed="rId3"/>
          <a:stretch/>
        </p:blipFill>
        <p:spPr>
          <a:xfrm>
            <a:off x="6019920" y="2514600"/>
            <a:ext cx="2133360" cy="17064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0"/>
          <p:cNvSpPr/>
          <p:nvPr/>
        </p:nvSpPr>
        <p:spPr>
          <a:xfrm>
            <a:off x="898560" y="4305240"/>
            <a:ext cx="759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Take a moment to write down one trait that is different and in what way 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s differen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1"/>
          <p:cNvSpPr/>
          <p:nvPr/>
        </p:nvSpPr>
        <p:spPr>
          <a:xfrm>
            <a:off x="228600" y="636264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*Dancing baby graphics and music courtesy of MegaBaby.com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1" fill="hold"/>
                                        <p:tgtEl>
                                          <p:spTgt spid="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8:07:54Z</dcterms:created>
  <dc:creator>John Bojnowski</dc:creator>
  <dc:description/>
  <dc:language>en-US</dc:language>
  <cp:lastModifiedBy>RomaK</cp:lastModifiedBy>
  <dcterms:modified xsi:type="dcterms:W3CDTF">2015-09-04T11:08:30Z</dcterms:modified>
  <cp:revision>14</cp:revision>
  <dc:subject/>
  <dc:title>Sexual Reproduction</dc:title>
</cp:coreProperties>
</file>